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F753-AC66-432B-A3BF-AB06FB8F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A6BD-866A-41E5-A6BF-81C322B5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ECF3-A874-41A6-9797-653331A1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4587-D559-4306-91CD-9314F40F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E4E5-4C63-4AD8-B733-AC7D82BA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2365-E7F3-47DD-B411-25929207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69BC-E620-4077-8B99-8E027779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ACDA-F593-4AAE-B9FC-76E4B9A2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E242-0589-41A2-A02F-2275EF4E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8955-C60F-4390-9C94-1CC533FC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9F11-C903-4C7F-870B-0410DCCA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D3C5-5543-4C77-9B8C-80E0C904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8187-C087-4466-B780-445617209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buzzerheavy.wav" TargetMode="External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7.xml"/><Relationship Id="rId27" Type="http://schemas.openxmlformats.org/officeDocument/2006/relationships/slide" Target="slide59.xml"/><Relationship Id="rId28" Type="http://schemas.openxmlformats.org/officeDocument/2006/relationships/slide" Target="slide61.xml"/><Relationship Id="rId29" Type="http://schemas.openxmlformats.org/officeDocument/2006/relationships/slide" Target="slide63.xml"/><Relationship Id="rId30" Type="http://schemas.openxmlformats.org/officeDocument/2006/relationships/slide" Target="slide65.xml"/><Relationship Id="rId31" Type="http://schemas.openxmlformats.org/officeDocument/2006/relationships/slide" Target="slide67.xml"/><Relationship Id="rId3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66294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37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1373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3842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8513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523880" y="2057400"/>
            <a:ext cx="59436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90720" y="2057400"/>
            <a:ext cx="73152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ocations and method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sed to make product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ailable to customer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523880" y="2666880"/>
            <a:ext cx="62485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stribu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8080" y="1523880"/>
            <a:ext cx="75438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sing advertising to distribut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fo about products, services, image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ideas to achieve a desired outco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523880" y="23623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mo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14400" y="1676520"/>
            <a:ext cx="73152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# of times per ad, game, or show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a product or service is associat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th an athlete, team, or entertain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523880" y="2057400"/>
            <a:ext cx="59436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o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res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8080" y="1219320"/>
            <a:ext cx="754380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thering and using inf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bout customers to improv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usiness decision mak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523880" y="1600200"/>
            <a:ext cx="59436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k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form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nag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219320" y="1828800"/>
            <a:ext cx="67816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mount that customer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y for product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143000" y="2209680"/>
            <a:ext cx="6858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as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86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52480" y="2895480"/>
            <a:ext cx="5486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62120" y="1066680"/>
            <a:ext cx="769608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acteristics of a group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ch as age range, marital statu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der, ethnic background, inco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vel, and education leve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905120" y="259092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mograph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219320" y="1828800"/>
            <a:ext cx="670536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number of view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rogramming attract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752480" y="1828800"/>
            <a:ext cx="5257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ating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219320" y="1828800"/>
            <a:ext cx="670536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mt of $ individuals hav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ailable to spend aft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cessities are paid for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752480" y="1828800"/>
            <a:ext cx="5257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scretiona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co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066680" y="1828800"/>
            <a:ext cx="73152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y direct and person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unication with customers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sess and satisfy their need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828800" y="2438280"/>
            <a:ext cx="5486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l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14400" y="1828800"/>
            <a:ext cx="75438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king decisions to u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ources in ways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ult in the greatest prof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1371600"/>
            <a:ext cx="70866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as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828800" y="2209680"/>
            <a:ext cx="57150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f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ti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8080" y="1828800"/>
            <a:ext cx="77724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amt of satisfaction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son receives from the consumpti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 particular product/servic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371600" y="1828800"/>
            <a:ext cx="6477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conom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til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14400" y="2362320"/>
            <a:ext cx="7543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a physical characterist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 product is improve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447920" y="2209680"/>
            <a:ext cx="6172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til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66680" y="2133720"/>
            <a:ext cx="74678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study of the relationship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etween individu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sumers and producer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90720" y="2438280"/>
            <a:ext cx="7467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croeconom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143000" y="1523880"/>
            <a:ext cx="69343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ults from making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duct or service availab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 an affordable pric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447920" y="2362320"/>
            <a:ext cx="62481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sses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til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762120" y="1676520"/>
            <a:ext cx="77724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cludes weather conditions t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nnot be avoided such a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rnadoes, hurricanes &amp; flood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523880" y="1828800"/>
            <a:ext cx="61722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conom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066680" y="1981080"/>
            <a:ext cx="7086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atur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is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3" action="ppaction://hlinksldjump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8080" y="1295280"/>
            <a:ext cx="784872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the business is legall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ponsible for damag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might have to pay f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medical cost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other losses suffered b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injured pers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438280" y="1676520"/>
            <a:ext cx="40388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a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066680" y="1676520"/>
            <a:ext cx="73915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y include custom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oplifting and fraud 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mployee theft and incompetenc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600200" y="1676520"/>
            <a:ext cx="57913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um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is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914400" y="1676520"/>
            <a:ext cx="75438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a busine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sumes the cost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insurable risk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905120" y="1676520"/>
            <a:ext cx="533376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is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nten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8080" y="1676520"/>
            <a:ext cx="76201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utcome is unknown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ld result in gain 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oss for investor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295280" y="1981080"/>
            <a:ext cx="63248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ectulati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is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371600" y="1828800"/>
            <a:ext cx="65530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ossibility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nancial gain or lo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 personal injur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066680" y="2057400"/>
            <a:ext cx="723924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is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nag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828800" y="2057400"/>
            <a:ext cx="54100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isk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295280" y="1371600"/>
            <a:ext cx="693432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eventing, reducing, or lessen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negative impacts of risk by us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strategies of risk avoidanc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urance, transfer, and retenti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752480" y="1905120"/>
            <a:ext cx="58676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is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nag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914400" y="1752480"/>
            <a:ext cx="746748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igh standards of ru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guidelines in bo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usiness and personal lif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828800" y="2438280"/>
            <a:ext cx="54100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incip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8080" y="1981080"/>
            <a:ext cx="76201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ure risk for which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ces of loss are predictable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amt of loss can be estimate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828800" y="2209680"/>
            <a:ext cx="54100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ura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is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143000" y="1752480"/>
            <a:ext cx="70102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ges in which people advanc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om childish behavior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ture responsible behavior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ac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velop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066680" y="1219320"/>
            <a:ext cx="731520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income from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enture t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stributed to investor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isk &amp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h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905120" y="1600200"/>
            <a:ext cx="52578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turn 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vest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066680" y="1371600"/>
            <a:ext cx="73915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ows all revenues receiv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all expenses incurr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ver a specific period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905120" y="1600200"/>
            <a:ext cx="52578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co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t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066680" y="1371600"/>
            <a:ext cx="708660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ows company’s asset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its liabilities 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specific point in ti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alanc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e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990720" y="1600200"/>
            <a:ext cx="739116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report develop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predict the expense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venues from an eve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905120" y="2209680"/>
            <a:ext cx="5257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eca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914400" y="1600200"/>
            <a:ext cx="76201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lan for h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ailable fund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ll be spe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905120" y="2514600"/>
            <a:ext cx="5257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udg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3"/>
          </p:cNvPr>
          <p:cNvSpPr/>
          <p:nvPr/>
        </p:nvSpPr>
        <p:spPr>
          <a:xfrm>
            <a:off x="73152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838080" y="1295280"/>
            <a:ext cx="7467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 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62120" y="3505320"/>
            <a:ext cx="7467480" cy="25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List the four strategies 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of managing risk.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1373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523880" y="2057400"/>
            <a:ext cx="60199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n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1371600"/>
            <a:ext cx="72388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isk Avoidanc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isk Insuranc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isk Transf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isk Retentio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rId3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4320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457200"/>
            <a:ext cx="11430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Basic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o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Basic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76720" y="380880"/>
            <a:ext cx="1143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conomic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724280" y="30492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isk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nagemen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isk &amp;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thic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nc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763120" y="6477120"/>
            <a:ext cx="304560" cy="2286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90720" y="1066680"/>
            <a:ext cx="71625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w a business blends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ur marketing elements of product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stribution, price, and promoti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Jessica Spangenberg</cp:lastModifiedBy>
  <dcterms:modified xsi:type="dcterms:W3CDTF">2009-10-26T22:02:12Z</dcterms:modified>
  <cp:revision>62</cp:revision>
  <dc:subject/>
  <dc:title>No Slide Title</dc:title>
</cp:coreProperties>
</file>